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883-3C6D-4997-8BD6-49CE31D3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A6FF-3B4D-48BE-A753-226D6764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1784-5A80-411E-8DB1-7B46F636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F7C-3983-4A82-A5DC-A7E2296C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5BE3-502B-4D95-9D8D-05F8552F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B91D-DA6B-464D-8E73-2F68F2EE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A0A-FBCE-4667-AF12-198DDDFB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0EF0-FB05-4809-A619-2915455F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AAD-5E28-4ABB-8A8E-86CBC625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C63D-86A1-4886-A3E3-719E2C23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5B04-28CB-479C-B451-119EDB19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6CF-82B3-41EC-BB4A-8C23D7F0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2C76-3B8C-40DE-A705-9D2C413F7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Tempera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by Pam Spi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ematics SOL 2.19---The student will read a Celsius and/or Fahrenheit thermometer to the nearest 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is temperature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erature is how warm or cool something 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 instrument is used to measure temperatur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herm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Pj04304560000[1]"/>
          <p:cNvPicPr/>
          <p:nvPr/>
        </p:nvPicPr>
        <p:blipFill>
          <a:blip r:embed="rId1"/>
          <a:stretch/>
        </p:blipFill>
        <p:spPr>
          <a:xfrm>
            <a:off x="525780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can we measure temperatur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In degrees Fahrenh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In degrees Cels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is used inside a thermometer to measure temperatu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3580920"/>
            <a:ext cx="746748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d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 kinds of things can we measure the temperature of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22800"/>
            <a:ext cx="81532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erature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es temperature outside influence our behavio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MCj03636100000[1]"/>
          <p:cNvPicPr/>
          <p:nvPr/>
        </p:nvPicPr>
        <p:blipFill>
          <a:blip r:embed="rId1"/>
          <a:stretch/>
        </p:blipFill>
        <p:spPr>
          <a:xfrm>
            <a:off x="838080" y="2666880"/>
            <a:ext cx="1430280" cy="183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MCj01376670000[1]"/>
          <p:cNvPicPr/>
          <p:nvPr/>
        </p:nvPicPr>
        <p:blipFill>
          <a:blip r:embed="rId2"/>
          <a:stretch/>
        </p:blipFill>
        <p:spPr>
          <a:xfrm>
            <a:off x="3657600" y="4094280"/>
            <a:ext cx="2181240" cy="2763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MCj03512350000[1]"/>
          <p:cNvPicPr/>
          <p:nvPr/>
        </p:nvPicPr>
        <p:blipFill>
          <a:blip r:embed="rId3"/>
          <a:stretch/>
        </p:blipFill>
        <p:spPr>
          <a:xfrm>
            <a:off x="304920" y="4572000"/>
            <a:ext cx="3244680" cy="167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MCj02324440000[1]"/>
          <p:cNvPicPr/>
          <p:nvPr/>
        </p:nvPicPr>
        <p:blipFill>
          <a:blip r:embed="rId4"/>
          <a:stretch/>
        </p:blipFill>
        <p:spPr>
          <a:xfrm>
            <a:off x="3048120" y="1981080"/>
            <a:ext cx="1758960" cy="1868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MPj03847030000[1]"/>
          <p:cNvPicPr/>
          <p:nvPr/>
        </p:nvPicPr>
        <p:blipFill>
          <a:blip r:embed="rId5"/>
          <a:stretch/>
        </p:blipFill>
        <p:spPr>
          <a:xfrm>
            <a:off x="6400800" y="4343400"/>
            <a:ext cx="250020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MPPH02898J0000[1]"/>
          <p:cNvPicPr/>
          <p:nvPr/>
        </p:nvPicPr>
        <p:blipFill>
          <a:blip r:embed="rId6"/>
          <a:stretch/>
        </p:blipFill>
        <p:spPr>
          <a:xfrm>
            <a:off x="6019920" y="2133720"/>
            <a:ext cx="25826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 1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red line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gh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hen the temperature is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ott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bxp28391"/>
          <p:cNvPicPr/>
          <p:nvPr/>
        </p:nvPicPr>
        <p:blipFill>
          <a:blip r:embed="rId1"/>
          <a:stretch/>
        </p:blipFill>
        <p:spPr>
          <a:xfrm>
            <a:off x="6400800" y="3124080"/>
            <a:ext cx="1897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 2--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red line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gh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w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temperature is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ld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tock Photo - thermometer. fotosearch &#10;- search stock &#10;photos, pictures, &#10;images, and photo &#10;clipart"/>
          <p:cNvPicPr/>
          <p:nvPr/>
        </p:nvPicPr>
        <p:blipFill>
          <a:blip r:embed="rId1"/>
          <a:stretch/>
        </p:blipFill>
        <p:spPr>
          <a:xfrm>
            <a:off x="4495680" y="3505320"/>
            <a:ext cx="38484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22:12:14Z</dcterms:created>
  <dc:creator>Christin Youel</dc:creator>
  <dc:description/>
  <dc:language>en-US</dc:language>
  <cp:lastModifiedBy>Christin Youel</cp:lastModifiedBy>
  <dcterms:modified xsi:type="dcterms:W3CDTF">2009-09-20T20:53:55Z</dcterms:modified>
  <cp:revision>3</cp:revision>
  <dc:subject/>
  <dc:title>Temperature</dc:title>
</cp:coreProperties>
</file>